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CCA-D3DB-4213-8E3E-8DE111DB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172-D514-4F86-95CA-2F52B851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C3D-BE21-45F6-AEF4-82DD7E8B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DAF-21C2-4457-BBFD-C03DB3E5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E86B-9934-4A1A-86C7-1DA1890A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2441-94E6-478B-9757-80F0B2ED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096A-ABE0-47EE-A869-1BD7C579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F9B7-E6F9-40FE-B675-B12AD605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E397-4C39-42ED-B2CC-02E70176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AFE7-628F-4EDE-9973-B233D201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7901-1D37-4E34-9963-635D0B6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FE4-CDF3-4FCC-8E06-7CF58315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840A-E1BB-4101-B19C-FEBD80ED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4B65-F96F-4AD4-82E7-A48881B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AB87-136E-4F1A-B13B-370B58B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81D0-A388-424C-BF7A-B317D1B3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C5E2-DF11-47AB-96AC-FAFF0BA8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BB9-3AEC-4FB5-AF08-F7D31160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3CC-E60C-4B56-A361-1CC56310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2B3-60F6-4D7F-85F7-3C221AFD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836-9067-491F-AC30-F3E473D4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8C9-1B33-4688-AEA7-9105F1A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9A9-5CA7-4EE1-A011-EA5FFFE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C54-0079-4E4F-8A57-D8F4C15A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AC443-4127-4826-AE11-C81FB89DF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8EBDE-B6B8-46A8-BC23-50CD69A51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28800" y="1857240"/>
            <a:ext cx="6858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tion 2.8 Compounds: Formulas, Names, and M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4114800"/>
            <a:ext cx="5715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: Joe Lutz and Davis Perch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360" y="607680"/>
            <a:ext cx="84596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ompounds Formed from Polyatomic Ion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atomic ion stays together as a charged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or more of the same polyatomic ion are present in the formula unit, that ion appears in parentheses with the subscript written out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alcium nitrate, Ca(NO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heses and a subscript are not used unless more that one of the polyatomic ions is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milies of Oxoanion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oanions is when an element, ususally a nonmetal, is bonded to one or more oxyge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naming : ion with two or more O atoms take the nonmetal root and suffi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on with fewer O atoms takes the nonmetal root and suffi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O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ulfate, So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Hydrated Ionic Compound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number of water molecules associated with each formula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ormulas their number is shown after a centered 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aSO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2H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s the formula for calcium sulfate dihyd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ommon types of acids are Binary acids and Oxo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inary acid: solutions form when certain gaseous compounds dissolve in water; naming: if end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i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hange suffixe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Hydrogen Chloride to Hydrochloric a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xoacid: names are similar to those of oxoanions, except for two suffix change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ion becom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-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cid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-i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nion becom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-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cid Example: Perbromate is perbromic acid, and Iodite is Iodou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cid Names from Anion Nam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360" y="607680"/>
            <a:ext cx="84596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Names and Formulas of Binary Covalent Compound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5477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d by the combination of two elements, usually non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: 1) element with lower group number in periodic table is the first word; elemt with the higher group number is the second word. (Exception: When the compound contains oxygen and any of the halogens chlorine, bromine, and iodine, the halogen is named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If both elements are in the same group, the one with the higher period number is named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The second element is named with its root and the suff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word has a prefix only when more than one atom of the element is presnt; the second word usually has a numerical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0360" y="607680"/>
            <a:ext cx="84596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Molecular Masses from Chemical Formul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ar mass = sum of atomic m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ar mass of H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 (2 x atomic mass of H) + (1 x atomic mass of O) = (2 x 1.008 amu) + 16.00 amu = 18.02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 compounds are treated the same only because they do not consist of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arium Nitrate, Ba(NO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x 137.3 amu + (2 x 14.01 amu) + (6 x 16.00 amu) = 261.3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ypes of Chemical Formula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5920" y="1902960"/>
            <a:ext cx="885492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symbols and numerical subscripts that show the type and number of each atom present in the smallest unit of the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chemical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mpirical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ructur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relative number of atoms of each element in the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type of formula and is derived from the masses of the component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Hydrogen Peroxide empirical formula = HO, one H atom for every O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actual number of atoms in a molecule of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Hydrogen Peroxide Molecular Formula = H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H atoms and two O atoms in each molec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tructural Formul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number of atoms and bonds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Hydrogen Peroxide Structural Formula = H-O-O-H, each H is bonded to an O and O's are bonded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Learning Names and Formul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a periodic table group have the same ionic charge; Group 1A all have (1+) charge, Group 2A all have (2+)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ions, ion charge = group number minus 8; S in group 6A (6-8=-2) so ion is S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607680"/>
            <a:ext cx="84596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ompounds Formed from Monatomic Ion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of the cation is the same as the name of the Metal. Many metal names en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of the anion takes the root of the nonmetal name and adds the suffi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onic compound names give the positive ion (cation) first and the negative ion (anion)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nion formed from Bro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amed bro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rom+ide). If compound of metal calcium and nonmetal bromine is formed, would be called calcium brom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607680"/>
            <a:ext cx="84596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ompounds formed from Monatomic Ions (cont.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 compounds are arrays of oppositely charged ions rather than separate molecular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ormula unit, which gives relative numbers of cations and anions in the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alcium Bromide is composed of Ca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s and Br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s; therefore two Br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each Ca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the formula CaBr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a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607680"/>
            <a:ext cx="84596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ompounds with Metals That Can Form More Than One 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als can form more than one ion, each with a particular char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ron can form Fe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+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s, two compounds that iron forms with chorine are FeCl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med iron(II) chroride, and FeCl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med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ou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on with lower charge, Suffi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on with higher charge; making Iron (II) Chloride: ferrous choride, and iron (III) choride: ferric chlo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0:20:46Z</dcterms:created>
  <dc:creator>davis </dc:creator>
  <dc:description/>
  <dc:language>en-US</dc:language>
  <cp:lastModifiedBy/>
  <cp:revision>1</cp:revision>
  <dc:subject/>
  <dc:title/>
</cp:coreProperties>
</file>